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DDE7-580E-4348-9CDB-56F7EAB5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2077-2D22-4983-94FD-A75C94FE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F5A7-549F-4E8B-979D-815D0BD4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380-304B-4E74-829C-72AB43BC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D0F9-AB52-4AC6-BDDF-92BDDD1D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5887-DF12-4031-AB99-A09021A6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8554-8BE8-4A73-AAF7-3AEADF14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4294-1C41-439F-893A-B1AFD50A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133E-3830-4980-9200-2F73EE29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8E4A-5F79-4738-82CA-70344E9D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8B3B-BF5A-46F9-BDD6-3400BF46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D91-B56E-487E-BDDB-885B542F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C9A9-6732-4C45-9F64-08383589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6DFC-8DF9-4D88-9BB9-3EA026B0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3B18-48E5-4A2C-9D71-353200D9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54ED-2A11-4943-8831-92AF7FB8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E6BB-56EE-4937-BFB7-7FA45028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5F4-A508-4AA4-956D-3958DA41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833-4D8D-489F-B952-7BB8EDD6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BF35-F201-4ACE-B06D-EA9985F8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C3D-E3AD-4B3E-A3F8-624B4648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310-0E9A-4273-B65B-BA2E2501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0CD0-6D0B-4DA8-BC28-6B2D915F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738-EFF9-45E7-8DFD-C3749687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9740-87F9-4ACF-9BFC-E06B7A78CA4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0B55-8960-4D75-8DAF-F11DA3F7F5A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.ria.ua/photos/ria/news/6/600/60073/60073m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lip.dn.ua/wp-content/uploads/2009/02/15/21/33/034-20020227-230000-600x425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6966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f16dc"/>
                </a:solidFill>
                <a:latin typeface="Arial"/>
              </a:rPr>
              <a:t>Родительское собрание: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00000" y="1125000"/>
            <a:ext cx="564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f1311"/>
                </a:solidFill>
                <a:latin typeface="Times New Roman"/>
              </a:rPr>
              <a:t>«Адаптационный период пятиклассников»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Картинка 17 из 1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3209760"/>
            <a:ext cx="54720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57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f1311"/>
                </a:solidFill>
                <a:latin typeface="Arial"/>
              </a:rPr>
              <a:t>13-18 баллов</a:t>
            </a: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 набрали </a:t>
            </a:r>
            <a:r>
              <a:rPr b="0" i="1" lang="en-US" sz="4000" spc="-1" strike="noStrike">
                <a:solidFill>
                  <a:srgbClr val="2f1311"/>
                </a:solidFill>
                <a:latin typeface="Arial"/>
              </a:rPr>
              <a:t>3 человека.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4f16dc"/>
                </a:solidFill>
                <a:latin typeface="Arial"/>
              </a:rPr>
              <a:t>Этим детям скорее всего безразличен психологический климат в классе. Вероятно, у них есть другая группа, где общение для них более значимо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4772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7. Сколько раз за сентябрь месяц Вы опоздали на уроки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ни разу (16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один раз (5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два раза (2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три раз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) больше трёх раз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4772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8. Сколько раз за сентябрь месяц вы не выполнили домашнее задание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738648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всегда выполнял (19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один раз (3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два раза (1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три раз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) больше трёх раз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9. Сколько раз за сентябрь месяц Вы нарушали дисциплину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7386480" cy="32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ни разу (8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один раз (12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два раза (2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три раз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) больше трёх раз (1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10.</a:t>
            </a:r>
            <a:r>
              <a:rPr b="0" i="1" lang="en-US" sz="3600" spc="-1" strike="noStrike">
                <a:solidFill>
                  <a:srgbClr val="4f16d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Сколько раз за сентябрь месяц Вы пришли в школу без сменной обуви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2421000"/>
            <a:ext cx="73864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ни разу (18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один раз (2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два раз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три раз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) больше трёх раз (3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11. Можете ли Вы работать на уроках лучше, чем сейчас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73864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да (18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не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скорее да, чем нет (4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скорее нет, чем да (1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74772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12. Подружился ли ты с кем-то из тех, кого не знал раньше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7386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да (23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не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скорее да, чем не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скорее нет, чем д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4772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13. Помогаешь ли ты родителям в их домашних делах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7386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да, если попросят (12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да, у меня есть постоянные обязанности (7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да, всегда, когда вижу, что нужна помощь (4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нет, меня об этом не прося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) нет, моя основная работа – учёб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6) стараюсь избежать работы по дом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14. Всегда ли ты внимательно слушаешь учителя на уроках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73864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да (14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нет (1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скорее да, чем нет (6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скорее нет, чем да (2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74772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15.Всегда ли ты вовремя выполняешь просьбы и распоряжения классного руководителя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2781000"/>
            <a:ext cx="738648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да (16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нет (1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скорее да, чем нет (5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скорее нет, чем да (1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477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1. С каким настроением Вы идёте в школу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73864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Всегда с хорошим настроением (6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С хорошим чаще, чем с плохим (12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С равнодушием (3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С плохим чаще, чем с хорошим (2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) Всегда с плохим настроением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7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4f16dc"/>
              </a:solidFill>
              <a:latin typeface="Times New Roman"/>
            </a:endParaRPr>
          </a:p>
        </p:txBody>
      </p:sp>
      <p:pic>
        <p:nvPicPr>
          <p:cNvPr id="230" name="" descr="Картинка 20 из 4183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195640" y="4581360"/>
            <a:ext cx="69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f16dc"/>
                </a:solidFill>
                <a:latin typeface="Arial"/>
              </a:rPr>
              <a:t>Спасибо за внимание!</a:t>
            </a:r>
            <a:br>
              <a:rPr sz="4400"/>
            </a:br>
            <a:r>
              <a:rPr b="0" i="1" lang="en-US" sz="4400" spc="-1" strike="noStrike">
                <a:solidFill>
                  <a:srgbClr val="4f16dc"/>
                </a:solidFill>
                <a:latin typeface="Arial"/>
              </a:rPr>
              <a:t>Успехов в учении!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74772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2. Нравятся ли Вам те люди, которые учатся вместе с Вами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989000"/>
            <a:ext cx="7386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Да, нравятся (9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Многие нравятся, некоторые – нет (11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Безразличны (2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Некоторые нравятся, но многие – нет (1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) Никто не нравитс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4772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3.Бывает ли у вас желание перейти в другой класс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989000"/>
            <a:ext cx="7386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Никогда не бывает (16)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Редко бывает (4)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Мне всё равно, где учиться (1)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Часто бывает (2)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) Думаю об этом постоянн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74772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4.Устраивает ли вас учёба в школе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Учёбой вполне доволен (15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Скорее доволен, чем недоволен (7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Учёба для меня безразлична (1) 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Скорее недоволен, чем доволен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) Совершенно недоволен учёбо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5. Как, по Вашему мнению, относится к Вам классный руководитель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2276280"/>
            <a:ext cx="73864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Очень хорошо (6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Хорошо (15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Безразлично (2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Скорее недоволен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) Очень плох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4772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f16dc"/>
                </a:solidFill>
                <a:latin typeface="Arial"/>
              </a:rPr>
              <a:t>6. В какой форме обращаются к Вам чаще преподаватели?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738648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</a:t>
            </a:r>
            <a:r>
              <a:rPr b="1" i="1" lang="en-US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Убеждают, советуют, вежливо просят (16)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) чаще в вежливой форме, иногда грубо (7)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) мне это безразлично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чаще в грубой форме, иногда вежливо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) в грубой форме, унижающей достоинств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74772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f16dc"/>
                </a:solidFill>
                <a:latin typeface="Arial"/>
              </a:rPr>
              <a:t>Определите, какая из рожиц отражает ваше отношение к учебе на сегодняшний день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- 5 человек</a:t>
            </a:r>
            <a:br>
              <a:rPr sz="3200"/>
            </a:b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2- 7 человек</a:t>
            </a:r>
            <a:br>
              <a:rPr sz="3200"/>
            </a:b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3 – 7 человек</a:t>
            </a:r>
            <a:br>
              <a:rPr sz="3200"/>
            </a:b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 – 2 человека</a:t>
            </a:r>
            <a:br>
              <a:rPr sz="3200"/>
            </a:b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5 – 1 человек</a:t>
            </a:r>
            <a:br>
              <a:rPr sz="3200"/>
            </a:b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6 – 1 человек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Image797" descr=""/>
          <p:cNvPicPr/>
          <p:nvPr/>
        </p:nvPicPr>
        <p:blipFill>
          <a:blip r:embed="rId1"/>
          <a:stretch/>
        </p:blipFill>
        <p:spPr>
          <a:xfrm>
            <a:off x="0" y="2060640"/>
            <a:ext cx="78850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4768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f16dc"/>
                </a:solidFill>
                <a:latin typeface="Arial"/>
              </a:rPr>
              <a:t>По итогам теста 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2f1311"/>
                </a:solidFill>
                <a:latin typeface="Arial"/>
              </a:rPr>
              <a:t>6-12 баллов</a:t>
            </a: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 набрали </a:t>
            </a:r>
            <a:r>
              <a:rPr b="0" i="1" lang="en-US" sz="4000" spc="-1" strike="noStrike">
                <a:solidFill>
                  <a:srgbClr val="2f1311"/>
                </a:solidFill>
                <a:latin typeface="Arial"/>
              </a:rPr>
              <a:t>20 человек.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4f16dc"/>
                </a:solidFill>
                <a:latin typeface="Arial"/>
              </a:rPr>
              <a:t>Эти дети высоко оценивают психологический климат в классе. Им нравятся люди, с которыми они учатся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1:07:16Z</dcterms:created>
  <dc:creator>Zver</dc:creator>
  <dc:description/>
  <dc:language>en-US</dc:language>
  <cp:lastModifiedBy>Zver</cp:lastModifiedBy>
  <dcterms:modified xsi:type="dcterms:W3CDTF">2009-09-24T19:26:08Z</dcterms:modified>
  <cp:revision>8</cp:revision>
  <dc:subject/>
  <dc:title>Слайд 1</dc:title>
</cp:coreProperties>
</file>