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EC4-B0DE-4138-BF08-94AB4F77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739-186D-4EAC-AA56-EAED8566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078-C249-40CE-9925-858A825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034-71EE-4B01-B960-B4BB3E86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961-5A86-4528-9C9C-B3CFF0A6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B7FE-5E86-4E9C-BA3C-3CC0A31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EFE-4B3A-45BF-9601-15FAFE67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C2A5-063E-42D2-BAA6-A37A92F9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C69C-02DF-4D5A-B788-5EABC587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51A1-3714-4392-94CA-4E08BF23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D3E8-3C77-4556-946E-FD5D8A2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3F6-944C-4EBE-888F-B0E66698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8856-4CF2-40D0-9AC7-E6F0518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7E1-CCF2-4880-922B-06C3504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498-E669-4D71-B53D-8971B76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6A5-E3A4-4E60-A0E8-49C5C8A3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F904-2856-4130-9D18-D8C674B9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6C4-1811-4B5F-97AE-346F4551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033-28E8-40AB-94BE-A0DA851D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F99-07DB-4A5C-8606-AB1B430A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0BD-CE0A-4550-ABE2-E95C2BCA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CD4-608C-40EB-84B7-8E94AB1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884-C3F6-4680-AAC5-28E7301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A02-AE10-4369-B088-671D1C2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D17-5D36-4F57-83A2-0EA00353F30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748C-9D3A-4378-8022-3E3C45C3361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.ria.ua/photos/ria/news/6/600/60073/60073m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lip.dn.ua/wp-content/uploads/2009/02/15/21/33/034-20020227-230000-600x42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696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16dc"/>
                </a:solidFill>
                <a:latin typeface="Arial"/>
              </a:rPr>
              <a:t>Родительское собрание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«Адаптационный период пятиклассников»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Картинка 17 из 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209760"/>
            <a:ext cx="5472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13-18 баллов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 набрали </a:t>
            </a: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3 человека.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Этим детям скорее всего безразличен психологический климат в классе. Вероятно, у них есть другая группа, где общение для них более значимо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7. Сколько раз за сентябрь месяц Вы опоздали на уроки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 разу (1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772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8. Сколько раз за сентябрь месяц вы не выполнили домашнее задание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7386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всегда выполнял (19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3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9. Сколько раз за сентябрь месяц Вы нарушали дисциплину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738648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 разу (8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1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 (1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0.</a:t>
            </a:r>
            <a:r>
              <a:rPr b="0" i="1" lang="en-US" sz="3600" spc="-1" strike="noStrike">
                <a:solidFill>
                  <a:srgbClr val="4f16d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Сколько раз за сентябрь месяц Вы пришли в школу без сменной обуви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2421000"/>
            <a:ext cx="73864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 разу (18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 (3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1. Можете ли Вы работать на уроках лучше, чем сейчас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3864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18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 (4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4772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2. Подружился ли ты с кем-то из тех, кого не знал раньше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386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23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772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3. Помогаешь ли ты родителям в их домашних делах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386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, если попросят (1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да, у меня есть постоянные обязанности (7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а, всегда, когда вижу, что нужна помощь (4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нет, меня об этом не прося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нет, моя основная работа – учёб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6) стараюсь избежать работы по до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4. Всегда ли ты внимательно слушаешь учителя на уроках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3864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14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 (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477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5.Всегда ли ты вовремя выполняешь просьбы и распоряжения классного руководителя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2781000"/>
            <a:ext cx="7386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1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 (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. С каким настроением Вы идёте в школу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386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Всегда с хорошим настроением (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С хорошим чаще, чем с плохим (1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 равнодушием (3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 плохим чаще, чем с хорошим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Всегда с плохим настроением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4f16dc"/>
              </a:solidFill>
              <a:latin typeface="Times New Roman"/>
            </a:endParaRPr>
          </a:p>
        </p:txBody>
      </p:sp>
      <p:pic>
        <p:nvPicPr>
          <p:cNvPr id="230" name="" descr="Картинка 20 из 4183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195640" y="4581360"/>
            <a:ext cx="69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16dc"/>
                </a:solidFill>
                <a:latin typeface="Arial"/>
              </a:rPr>
              <a:t>Спасибо за внимание!</a:t>
            </a:r>
            <a:br>
              <a:rPr sz="4400"/>
            </a:br>
            <a:r>
              <a:rPr b="0" i="1" lang="en-US" sz="4400" spc="-1" strike="noStrike">
                <a:solidFill>
                  <a:srgbClr val="4f16dc"/>
                </a:solidFill>
                <a:latin typeface="Arial"/>
              </a:rPr>
              <a:t>Успехов в учении!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2. Нравятся ли Вам те люди, которые учатся вместе с Вам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, нравятся (9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Многие нравятся, некоторые – нет (1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Безразличны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Некоторые нравятся, но многие – нет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Никто не нравит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3.Бывает ли у вас желание перейти в другой класс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когда не бывает (16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Редко бывает (4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Мне всё равно, где учиться (1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Часто бывает (2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Думаю об этом постоян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4.Устраивает ли вас учёба в школе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Учёбой вполне доволен (1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Скорее доволен, чем недоволен (7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Учёба для меня безразлична (1)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доволен, чем доволен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Совершенно недоволен учёб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5. Как, по Вашему мнению, относится к Вам классный руководитель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Очень хорошо (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Хорошо (1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Безразлично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доволен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Очень плох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6. В какой форме обращаются к Вам чаще преподаватели?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3864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Убеждают, советуют, вежливо просят (16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чаще в вежливой форме, иногда грубо (7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мне это безразлично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чаще в грубой форме, иногда вежливо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в грубой форме, унижающей достоинств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4772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Определите, какая из рожиц отражает ваше отношение к учебе на сегодняшний день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- 5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- 7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 – 7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 – 2 человека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 – 1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6 – 1 человек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Image797" descr=""/>
          <p:cNvPicPr/>
          <p:nvPr/>
        </p:nvPicPr>
        <p:blipFill>
          <a:blip r:embed="rId1"/>
          <a:stretch/>
        </p:blipFill>
        <p:spPr>
          <a:xfrm>
            <a:off x="0" y="2060640"/>
            <a:ext cx="78850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4768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По итогам теста 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6-12 баллов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 набрали </a:t>
            </a: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20 человек.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Эти дети высоко оценивают психологический климат в классе. Им нравятся люди, с которыми они учатс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1:07:16Z</dcterms:created>
  <dc:creator>Zver</dc:creator>
  <dc:description/>
  <dc:language>en-US</dc:language>
  <cp:lastModifiedBy>Zver</cp:lastModifiedBy>
  <dcterms:modified xsi:type="dcterms:W3CDTF">2009-09-24T19:26:08Z</dcterms:modified>
  <cp:revision>8</cp:revision>
  <dc:subject/>
  <dc:title>Слайд 1</dc:title>
</cp:coreProperties>
</file>