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20A-DC2B-4D6A-9097-420D0BF0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470-9F94-49D4-86A6-3D957276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862-4337-4B1E-83F7-38D79330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8A7-A042-4802-B63D-D0318330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960-734C-457C-AD69-EC99BE69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C2A-D214-4058-869E-718C2F3B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7A5-84B4-4B9C-91CF-8DAAE1BB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734-436D-4C80-99F5-724DCAE9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684-65F7-452C-956D-EEB374DF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84D-DD10-4B73-AEC1-07FEB68B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9A7-EDB3-4727-B33A-77BF382D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BF8-F3F1-4633-A489-DF33A561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D1F7-D4F5-454A-A6A3-CF217BE389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2195640" y="357336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71367"/>
                </a:solidFill>
                <a:latin typeface="Arial"/>
              </a:rPr>
              <a:t>ОРГАНЫ ВКУ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71367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471367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411280" y="537372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71367"/>
                </a:solidFill>
                <a:latin typeface="Arial"/>
              </a:rPr>
              <a:t>ОСЯЗА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7667640" y="6216480"/>
            <a:ext cx="532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54723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тения распознают раздражители при помощи волосков и других приспособ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usik"/>
          <p:cNvPicPr/>
          <p:nvPr/>
        </p:nvPicPr>
        <p:blipFill>
          <a:blip r:embed="rId2"/>
          <a:stretch/>
        </p:blipFill>
        <p:spPr>
          <a:xfrm>
            <a:off x="5435640" y="1890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311860397_drosera-rotundifolia"/>
          <p:cNvPicPr/>
          <p:nvPr/>
        </p:nvPicPr>
        <p:blipFill>
          <a:blip r:embed="rId3"/>
          <a:stretch/>
        </p:blipFill>
        <p:spPr>
          <a:xfrm>
            <a:off x="5072040" y="3714840"/>
            <a:ext cx="3672000" cy="2774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liana-pasiflora-gigantskaia"/>
          <p:cNvPicPr/>
          <p:nvPr/>
        </p:nvPicPr>
        <p:blipFill>
          <a:blip r:embed="rId4"/>
          <a:stretch/>
        </p:blipFill>
        <p:spPr>
          <a:xfrm>
            <a:off x="642960" y="371484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1367"/>
                </a:solidFill>
                <a:latin typeface="Arial"/>
              </a:rPr>
              <a:t>Гигиена ко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46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е два дня мыть тело горячей водой с мы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ть руки после загряз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сить свободную одежду и обу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а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аться не ранить кожу, не допустить ожогов, обмор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кожа дышала, делать каждое утро заря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0" t="0" r="24983" b="9763"/>
          <a:stretch/>
        </p:blipFill>
        <p:spPr>
          <a:xfrm>
            <a:off x="5076720" y="1268280"/>
            <a:ext cx="354168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71367"/>
                </a:solidFill>
                <a:latin typeface="Arial"/>
              </a:rPr>
              <a:t>Пигментация ко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7120" y="43578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гментация кожи происходит под воздействием меланоцитов – красящих пигментных клеток. При пигментных дисфункциях происходит повышение или уменьшение нормального цвета кож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%D0%BF%D0%B8%D0%B3%D0%BC%D0%B5%D0%BD%D1%82"/>
          <p:cNvPicPr/>
          <p:nvPr/>
        </p:nvPicPr>
        <p:blipFill>
          <a:blip r:embed="rId2"/>
          <a:stretch/>
        </p:blipFill>
        <p:spPr>
          <a:xfrm>
            <a:off x="5003640" y="1557360"/>
            <a:ext cx="3672000" cy="2689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v002"/>
          <p:cNvPicPr/>
          <p:nvPr/>
        </p:nvPicPr>
        <p:blipFill>
          <a:blip r:embed="rId3"/>
          <a:stretch/>
        </p:blipFill>
        <p:spPr>
          <a:xfrm>
            <a:off x="684360" y="1628640"/>
            <a:ext cx="38890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1367"/>
                </a:solidFill>
                <a:latin typeface="Arial"/>
              </a:rPr>
              <a:t>Альбиниз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рождённое отсутствие пигмента мелан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22f3084b27368ce28fed3578341f4b3"/>
          <p:cNvPicPr/>
          <p:nvPr/>
        </p:nvPicPr>
        <p:blipFill>
          <a:blip r:embed="rId1"/>
          <a:stretch/>
        </p:blipFill>
        <p:spPr>
          <a:xfrm>
            <a:off x="4357800" y="4071960"/>
            <a:ext cx="3851280" cy="2424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efc2e"/>
          <p:cNvPicPr/>
          <p:nvPr/>
        </p:nvPicPr>
        <p:blipFill>
          <a:blip r:embed="rId2"/>
          <a:stretch/>
        </p:blipFill>
        <p:spPr>
          <a:xfrm>
            <a:off x="642960" y="2500200"/>
            <a:ext cx="3154320" cy="3233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lbinos-01"/>
          <p:cNvPicPr/>
          <p:nvPr/>
        </p:nvPicPr>
        <p:blipFill>
          <a:blip r:embed="rId3"/>
          <a:stretch/>
        </p:blipFill>
        <p:spPr>
          <a:xfrm>
            <a:off x="4714920" y="1428840"/>
            <a:ext cx="33098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1367"/>
                </a:solidFill>
                <a:latin typeface="Arial"/>
              </a:rPr>
              <a:t>Кожные заболе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512316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топический дер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к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Атопический дерматит - детская стадия"/>
          <p:cNvPicPr/>
          <p:nvPr/>
        </p:nvPicPr>
        <p:blipFill>
          <a:blip r:embed="rId1"/>
          <a:stretch/>
        </p:blipFill>
        <p:spPr>
          <a:xfrm>
            <a:off x="3564000" y="422100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Акне - открытые комедоны"/>
          <p:cNvPicPr/>
          <p:nvPr/>
        </p:nvPicPr>
        <p:blipFill>
          <a:blip r:embed="rId2"/>
          <a:stretch/>
        </p:blipFill>
        <p:spPr>
          <a:xfrm>
            <a:off x="5867280" y="981000"/>
            <a:ext cx="2800440" cy="1866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Дермографизм уртикарный"/>
          <p:cNvPicPr/>
          <p:nvPr/>
        </p:nvPicPr>
        <p:blipFill>
          <a:blip r:embed="rId3"/>
          <a:stretch/>
        </p:blipFill>
        <p:spPr>
          <a:xfrm>
            <a:off x="6732720" y="3357720"/>
            <a:ext cx="2052360" cy="3130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Базалиомы туловища и конечностей"/>
          <p:cNvPicPr/>
          <p:nvPr/>
        </p:nvPicPr>
        <p:blipFill>
          <a:blip r:embed="rId4"/>
          <a:stretch/>
        </p:blipFill>
        <p:spPr>
          <a:xfrm>
            <a:off x="179280" y="436572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1367"/>
                </a:solidFill>
                <a:latin typeface="Arial"/>
              </a:rPr>
              <a:t>Азбука слеп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изображения букв в шрифте Брайля используются 6 точек, расположенных в два столбца, по 3 в каждом. Одной из особенностей шрифта Брайля является то, что пишется текст справа налево, затем страница переворачивается, и текст читается слева направо. При письме прокалываются точки, и поскольку читать можно только по выпуклым точкам, «писать» текст приходится с обратной стороны листа. В этом заключается одна из сложностей при обучении этому шриф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84859007"/>
          <p:cNvPicPr/>
          <p:nvPr/>
        </p:nvPicPr>
        <p:blipFill>
          <a:blip r:embed="rId1"/>
          <a:stretch/>
        </p:blipFill>
        <p:spPr>
          <a:xfrm>
            <a:off x="5580000" y="1341360"/>
            <a:ext cx="31593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333360"/>
            <a:ext cx="3394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Думают иные — те, кто звуки слыша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Те, кто видят солнце, звезды и лу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Как она без зрения красоту опиш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Как поймет без слуха звуки и вес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Я услышу запах и росы прохла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Легкий шелест листьев пальцами лов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Утопая в сумрак я пройду по са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И мечтать готова, и сказать любл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усть я не увижу глаз его сиянь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е услышу голос, ласковый, жив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о слова без звука — чувства трепе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Я ловлю и слышу быстрою ру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И за ум, за сердце я любить гот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Так, как любят запах нежного цвет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Так, как любят в дружбе дорогое сло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Так, как любит трепет сжатая ру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Я умом увижу, чувствами услыш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А мечтой привольной мир я обле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Каждый ли из зрячих красоту опиш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Улыбнется ль ясно яркому луч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е имею слуха, не имею зр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о имею больше — чувств живых прост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Гибким и послушным, жгучим вдохновени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Я соткала жизни красочный уз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Если Вас чаруют красота и зв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е гордитесь этим счастьем предо мн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Лучше протяните с добрым чувством р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371920"/>
            <a:ext cx="455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и стихи написаны слепоглухонемым человеком. Их автор- Ольга Ивановна Скороходова , кандидат педагогических наук. Ольга Ивановна умерла в 1982 году. Всю жизнь она проработала в НИИ дефектологии АПН СССР  научным сотрудник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40360" y="1484280"/>
            <a:ext cx="48592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71367"/>
                </a:solidFill>
                <a:latin typeface="Arial"/>
              </a:rPr>
              <a:t>Поступление сигн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539640" y="1557360"/>
            <a:ext cx="1981080" cy="1066680"/>
            <a:chOff x="539640" y="1557360"/>
            <a:chExt cx="1981080" cy="1066680"/>
          </a:xfrm>
        </p:grpSpPr>
        <p:sp>
          <p:nvSpPr>
            <p:cNvPr id="50" name="Rectangle 11"/>
            <p:cNvSpPr/>
            <p:nvPr/>
          </p:nvSpPr>
          <p:spPr>
            <a:xfrm>
              <a:off x="539640" y="1557360"/>
              <a:ext cx="190512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615960" y="18619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Times New Roman"/>
                </a:rPr>
                <a:t>рецеп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2556000" y="1557360"/>
            <a:ext cx="2590200" cy="1066680"/>
            <a:chOff x="2556000" y="1557360"/>
            <a:chExt cx="2590200" cy="1066680"/>
          </a:xfrm>
        </p:grpSpPr>
        <p:grpSp>
          <p:nvGrpSpPr>
            <p:cNvPr id="53" name="Group 14"/>
            <p:cNvGrpSpPr/>
            <p:nvPr/>
          </p:nvGrpSpPr>
          <p:grpSpPr>
            <a:xfrm>
              <a:off x="3241440" y="1557360"/>
              <a:ext cx="1904760" cy="1066680"/>
              <a:chOff x="3241440" y="1557360"/>
              <a:chExt cx="1904760" cy="1066680"/>
            </a:xfrm>
          </p:grpSpPr>
          <p:sp>
            <p:nvSpPr>
              <p:cNvPr id="54" name="Rectangle 15"/>
              <p:cNvSpPr/>
              <p:nvPr/>
            </p:nvSpPr>
            <p:spPr>
              <a:xfrm>
                <a:off x="3241440" y="1557360"/>
                <a:ext cx="1904760" cy="1066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16"/>
              <p:cNvSpPr/>
              <p:nvPr/>
            </p:nvSpPr>
            <p:spPr>
              <a:xfrm>
                <a:off x="3241440" y="1557360"/>
                <a:ext cx="19047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Times New Roman"/>
                  </a:rPr>
                  <a:t>нервный пут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Line 17"/>
            <p:cNvSpPr/>
            <p:nvPr/>
          </p:nvSpPr>
          <p:spPr>
            <a:xfrm>
              <a:off x="2556000" y="2166840"/>
              <a:ext cx="68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3"/>
          <p:cNvGrpSpPr/>
          <p:nvPr/>
        </p:nvGrpSpPr>
        <p:grpSpPr>
          <a:xfrm>
            <a:off x="5219640" y="1484280"/>
            <a:ext cx="2666880" cy="1191240"/>
            <a:chOff x="5219640" y="1484280"/>
            <a:chExt cx="2666880" cy="1191240"/>
          </a:xfrm>
        </p:grpSpPr>
        <p:grpSp>
          <p:nvGrpSpPr>
            <p:cNvPr id="58" name="Group 24"/>
            <p:cNvGrpSpPr/>
            <p:nvPr/>
          </p:nvGrpSpPr>
          <p:grpSpPr>
            <a:xfrm>
              <a:off x="5905440" y="1484280"/>
              <a:ext cx="1981080" cy="1191240"/>
              <a:chOff x="5905440" y="1484280"/>
              <a:chExt cx="1981080" cy="1191240"/>
            </a:xfrm>
          </p:grpSpPr>
          <p:sp>
            <p:nvSpPr>
              <p:cNvPr id="59" name="Rectangle 25"/>
              <p:cNvSpPr/>
              <p:nvPr/>
            </p:nvSpPr>
            <p:spPr>
              <a:xfrm>
                <a:off x="5905440" y="1560600"/>
                <a:ext cx="1904760" cy="1066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26"/>
              <p:cNvSpPr/>
              <p:nvPr/>
            </p:nvSpPr>
            <p:spPr>
              <a:xfrm>
                <a:off x="5905440" y="1484280"/>
                <a:ext cx="1981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Times New Roman"/>
                  </a:rPr>
                  <a:t>зона коры головного мозг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Line 27"/>
            <p:cNvSpPr/>
            <p:nvPr/>
          </p:nvSpPr>
          <p:spPr>
            <a:xfrm>
              <a:off x="5219640" y="2093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29" descr="40212"/>
          <p:cNvPicPr/>
          <p:nvPr/>
        </p:nvPicPr>
        <p:blipFill>
          <a:blip r:embed="rId1"/>
          <a:stretch/>
        </p:blipFill>
        <p:spPr>
          <a:xfrm>
            <a:off x="324000" y="3284640"/>
            <a:ext cx="3958920" cy="294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brain"/>
          <p:cNvPicPr/>
          <p:nvPr/>
        </p:nvPicPr>
        <p:blipFill>
          <a:blip r:embed="rId2"/>
          <a:stretch/>
        </p:blipFill>
        <p:spPr>
          <a:xfrm>
            <a:off x="4500720" y="3429000"/>
            <a:ext cx="44640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d05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кус – важное чувство, которым мы обладаем. Совместная работа нескольких факторов помогает нам почувствовать вкус пищи, которую мы едим. Среди этих факторов наибольшее значение имеет слюна и вкусовые рецеп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024.jpg"/>
          <p:cNvPicPr/>
          <p:nvPr/>
        </p:nvPicPr>
        <p:blipFill>
          <a:blip r:embed="rId1"/>
          <a:stretch/>
        </p:blipFill>
        <p:spPr>
          <a:xfrm>
            <a:off x="4716360" y="3284640"/>
            <a:ext cx="4035600" cy="302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3240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71367"/>
                </a:solidFill>
                <a:latin typeface="Arial"/>
              </a:rPr>
              <a:t>Вкусовой анализатор -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ловеческий язык считается самой сильной мышцей в теле, а также наиболее чувствительной и самой гиб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ш язык может распознавать сладкий, кислый, соленый и горький вк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61872732_48624"/>
          <p:cNvPicPr/>
          <p:nvPr/>
        </p:nvPicPr>
        <p:blipFill>
          <a:blip r:embed="rId1"/>
          <a:stretch/>
        </p:blipFill>
        <p:spPr>
          <a:xfrm>
            <a:off x="5508720" y="3284640"/>
            <a:ext cx="301608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img7.jpg"/>
          <p:cNvPicPr/>
          <p:nvPr/>
        </p:nvPicPr>
        <p:blipFill>
          <a:blip r:embed="rId2"/>
          <a:stretch/>
        </p:blipFill>
        <p:spPr>
          <a:xfrm>
            <a:off x="468360" y="3213000"/>
            <a:ext cx="42847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71367"/>
                </a:solidFill>
                <a:latin typeface="Arial"/>
              </a:rPr>
              <a:t>Разнообразие вку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1310364511_5912211784_a1d15b99ee_z_large"/>
          <p:cNvPicPr/>
          <p:nvPr/>
        </p:nvPicPr>
        <p:blipFill>
          <a:blip r:embed="rId1"/>
          <a:stretch/>
        </p:blipFill>
        <p:spPr>
          <a:xfrm>
            <a:off x="571680" y="928800"/>
            <a:ext cx="2958840" cy="295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lyuda-iz-krasnoj-solennoj-ryby"/>
          <p:cNvPicPr/>
          <p:nvPr/>
        </p:nvPicPr>
        <p:blipFill>
          <a:blip r:embed="rId2"/>
          <a:stretch/>
        </p:blipFill>
        <p:spPr>
          <a:xfrm>
            <a:off x="4500720" y="976320"/>
            <a:ext cx="4248000" cy="284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816f5ffc4495db1ba063a1ad15edfb7f_b"/>
          <p:cNvPicPr/>
          <p:nvPr/>
        </p:nvPicPr>
        <p:blipFill>
          <a:blip r:embed="rId3"/>
          <a:stretch/>
        </p:blipFill>
        <p:spPr>
          <a:xfrm>
            <a:off x="314280" y="3967200"/>
            <a:ext cx="3745080" cy="2671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bcf86ad42d10652244eafbb7303ce9f3"/>
          <p:cNvPicPr/>
          <p:nvPr/>
        </p:nvPicPr>
        <p:blipFill>
          <a:blip r:embed="rId4"/>
          <a:stretch/>
        </p:blipFill>
        <p:spPr>
          <a:xfrm>
            <a:off x="4714920" y="3929040"/>
            <a:ext cx="36687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589960" cy="1573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пол.jpg"/>
          <p:cNvPicPr/>
          <p:nvPr/>
        </p:nvPicPr>
        <p:blipFill>
          <a:blip r:embed="rId3"/>
          <a:stretch/>
        </p:blipFill>
        <p:spPr>
          <a:xfrm>
            <a:off x="5940360" y="83664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4" descr="ч.jpg"/>
          <p:cNvPicPr/>
          <p:nvPr/>
        </p:nvPicPr>
        <p:blipFill>
          <a:blip r:embed="rId4"/>
          <a:stretch/>
        </p:blipFill>
        <p:spPr>
          <a:xfrm>
            <a:off x="6012000" y="2924280"/>
            <a:ext cx="2473200" cy="1692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кур.jpg"/>
          <p:cNvPicPr/>
          <p:nvPr/>
        </p:nvPicPr>
        <p:blipFill>
          <a:blip r:embed="rId5"/>
          <a:stretch/>
        </p:blipFill>
        <p:spPr>
          <a:xfrm>
            <a:off x="5857920" y="471492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324000" y="1773360"/>
            <a:ext cx="54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) После приема пищи нужно прополоскать 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24000" y="256536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) Нельзя есть очень горячую п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50920" y="321300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) Нельзя брать в рот острые предм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95280" y="3860640"/>
            <a:ext cx="5329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) Следует регулярно очищать язык от налета, чтобы избежать попадания инфе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1367"/>
                </a:solidFill>
                <a:latin typeface="Arial"/>
              </a:rPr>
              <a:t>Осязательный анализ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56880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цептор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ж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язательный нер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язательная  зона коры теменной доли головного 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1378063969_2005"/>
          <p:cNvPicPr/>
          <p:nvPr/>
        </p:nvPicPr>
        <p:blipFill>
          <a:blip r:embed="rId1"/>
          <a:stretch/>
        </p:blipFill>
        <p:spPr>
          <a:xfrm>
            <a:off x="6500880" y="1143000"/>
            <a:ext cx="2125440" cy="300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skinF"/>
          <p:cNvPicPr/>
          <p:nvPr/>
        </p:nvPicPr>
        <p:blipFill>
          <a:blip r:embed="rId2"/>
          <a:stretch/>
        </p:blipFill>
        <p:spPr>
          <a:xfrm>
            <a:off x="571680" y="3500280"/>
            <a:ext cx="385740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обои для рабочего стола, скачать обои, обои бесплатно - Страница 2233"/>
          <p:cNvPicPr/>
          <p:nvPr/>
        </p:nvPicPr>
        <p:blipFill>
          <a:blip r:embed="rId3"/>
          <a:stretch/>
        </p:blipFill>
        <p:spPr>
          <a:xfrm>
            <a:off x="5572080" y="4286160"/>
            <a:ext cx="3052800" cy="2290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3000" y="213840"/>
            <a:ext cx="59292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цепторы, находящиеся в наружном       покрове, мышцах, сухожилиях, суставах,      фасциях, некоторых слизистых оболочках (губ, языка); воспринимают    механические действия  (прикосновение, давление),  температурных и болевых                           раздра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осязание.jpg"/>
          <p:cNvPicPr/>
          <p:nvPr/>
        </p:nvPicPr>
        <p:blipFill>
          <a:blip r:embed="rId2"/>
          <a:stretch/>
        </p:blipFill>
        <p:spPr>
          <a:xfrm>
            <a:off x="4859280" y="3429000"/>
            <a:ext cx="3960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4321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ьшинство животных, чувство осязания у которых развито в большей степени, чем у человека, полагается в своем поведении именно на это чувство</a:t>
            </a:r>
            <a:r>
              <a:rPr b="1" i="1" lang="ru-RU" sz="24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214920812_ut6"/>
          <p:cNvPicPr/>
          <p:nvPr/>
        </p:nvPicPr>
        <p:blipFill>
          <a:blip r:embed="rId1"/>
          <a:stretch/>
        </p:blipFill>
        <p:spPr>
          <a:xfrm>
            <a:off x="5580000" y="3716280"/>
            <a:ext cx="3168720" cy="301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1210954736_talpa"/>
          <p:cNvPicPr/>
          <p:nvPr/>
        </p:nvPicPr>
        <p:blipFill>
          <a:blip r:embed="rId2"/>
          <a:stretch/>
        </p:blipFill>
        <p:spPr>
          <a:xfrm>
            <a:off x="500040" y="3857760"/>
            <a:ext cx="4248000" cy="283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octopus1"/>
          <p:cNvPicPr/>
          <p:nvPr/>
        </p:nvPicPr>
        <p:blipFill>
          <a:blip r:embed="rId3"/>
          <a:stretch/>
        </p:blipFill>
        <p:spPr>
          <a:xfrm>
            <a:off x="5929200" y="214200"/>
            <a:ext cx="2779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6:32:37Z</dcterms:created>
  <dc:creator>Максим</dc:creator>
  <dc:description/>
  <dc:language>en-US</dc:language>
  <cp:lastModifiedBy>Максим</cp:lastModifiedBy>
  <dcterms:modified xsi:type="dcterms:W3CDTF">2015-04-22T19:02:19Z</dcterms:modified>
  <cp:revision>9</cp:revision>
  <dc:subject/>
  <dc:title>Слайд 1</dc:title>
</cp:coreProperties>
</file>