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A20-7B87-416B-B60C-E4F5F942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CEC-4325-4570-B060-6AD109F1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FE3B-B3A0-4A8D-A123-2F8CF121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E3F0-7EE2-45F9-8CAC-AE5C882A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668-66C6-4795-A788-21A6262B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5057-14AA-4A21-B67B-6822B7EB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6623-26E6-43D3-A72B-C253653B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D814-3ADB-4789-A81E-9BCE78A9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C2FE-A990-4A74-A87A-54A46FAC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1AAE-BD5C-4EEB-9644-044FBE55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41D6-57A0-4278-9962-C845DF33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E6EB-28D1-456B-88CF-F279A9D8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0242-0C6A-4DBC-919F-45C5B45F38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88F9-8729-4A96-A062-9E5B3C1A1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hyperlink" Target="http://img1.liveinternet.ru/images/attach/c/0/46/706/46706987_202big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dk-arbat.ru/fotos/a1021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32000" y="1773360"/>
            <a:ext cx="583272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Конфликты с собственным ребёнком и пути их разрешения”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H:\Documents and Settings\Aida\Рабочий стол\НОвая ГРАФИКА сборник\КАРТИНКИ СБОРНИК_ школьные\s30.gif"/>
          <p:cNvPicPr/>
          <p:nvPr/>
        </p:nvPicPr>
        <p:blipFill>
          <a:blip r:embed="rId2"/>
          <a:stretch/>
        </p:blipFill>
        <p:spPr>
          <a:xfrm>
            <a:off x="4429080" y="5357880"/>
            <a:ext cx="1428840" cy="866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Картинка 33 из 416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916280"/>
            <a:ext cx="2994120" cy="4386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8569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Кто первым пытается разрешить конфликт — ты или другая сторона?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Я – 11 чел.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Когда как – 8 чел.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Другая сторона – 7 чел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Что ты, как правило, отстаиваешь в конфликте?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Свою правоту – 19 чел.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Ничего – 4 чел.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Права – 3 чел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785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еняется ли твое отношение к людям, с которыми ты конфликтовал, или после того, как конфликт уладился, все остается в ваших взаимоотношениях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о-прежнему?</a:t>
            </a:r>
            <a:br>
              <a:rPr sz="40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-прежнему – 17 чел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еняется – 9 че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Нужно ли учиться людям разрешать конфликтные ситуации?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Да – 26 чел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Ты хотел бы принять участие в тренинге эффективного взаимодействия с людьми?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Да – 14 чел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Нет - 12 чел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туация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бидятся – 9 чел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ставят – 6 чел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апомнят и поставят в подобную ситуацию – 5 чел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озлятся – 3 чел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сстроятся – 1 чел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осто сделают сами – 1 чел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просят помочь – 1 че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итуация 2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Покормят меня и друзей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– 11 чел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Выпроводят друзей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заставят убраться – 6 чел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тругают, но после того, как уйдут гости – 6 чел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Не знаю – 3 чел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764640"/>
            <a:ext cx="87138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туация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ехать к бабушке, там все сделать и помочь родителям – 20 чел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Умолять, обещать, доказывать, чтобы ехали без меня – 3 чел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 сказал, что не поеду, то так и будет – 2 чел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Меня никто и не спросит – 1 че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Картинка 53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717480"/>
            <a:ext cx="7920000" cy="5940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8100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8000"/>
                </a:solidFill>
                <a:latin typeface="Times New Roman"/>
              </a:rPr>
              <a:t>Успехов Вам в воспитании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64216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Перед вами 10 выражений, которые характеризуют человека. Выпишите те качества, которые, по вашему мнению, можно отнести к вам. Их должно быть не менее пят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8A36-CC2F-4EAE-82F8-51BE52363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3640" y="765000"/>
            <a:ext cx="8589960" cy="589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 – хороший друг – 23 чел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Я – добрый -21 чел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Я – упрямый – 20 чел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 – умный – 16 чел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Я – помощник  – 16 чел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Я – терпеливый – 14 чел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 – нетерпеливый – 12 чел.      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 – обидчивый – 5 чел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 – безразличный – 4 чел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Я – злой – 0 че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42DA-FC8D-4880-B65C-C74F258BA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675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Ты конфликтный человек?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Да – 7 чел.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Нет – 19 чел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1B9A-D580-4851-B6AC-EBD11A9F4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Легко ли тебе с кем-то выяснять отношения?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Да – 12 чел.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Нет – 12 чел.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Не знаю – 2 чел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то ты чувствуешь после того, как выяснил с кем-то отношения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блегчение – 8 чел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ичего – 6 чел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лость, размышляю, обиду, удовлетворение, грусть, спокойствие, честность, свободу и т.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6421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тановишься ли ты умнее после выхода из конфликтной ситуации, делаешь ли для себя какие-нибудь выводы?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Да – 20 чел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Нет – 6 чел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640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 кем ты чаще всего конфликтуешь?</a:t>
            </a:r>
            <a:br>
              <a:rPr sz="5400"/>
            </a:br>
            <a:br>
              <a:rPr sz="54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С родителями – 14 чел.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С друзьями – 7 чел.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С братом (сестрой) – 5 чел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6421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то может стать поводом к конфликтной ситуации?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се, что угодно – 6 чел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есдержанное обещание – 4 чел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скорбление – 4 чел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прямство – 3 чел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азногласия – 3 чел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роки – 3 чел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теря – 1 че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1:17:38Z</dcterms:created>
  <dc:creator>Master</dc:creator>
  <dc:description>http://aida.ucoz.ru</dc:description>
  <dc:language>en-US</dc:language>
  <cp:lastModifiedBy>Sidorova_EM</cp:lastModifiedBy>
  <dcterms:modified xsi:type="dcterms:W3CDTF">2010-11-28T19:38:16Z</dcterms:modified>
  <cp:revision>6</cp:revision>
  <dc:subject/>
  <dc:title>С. В. Михалков </dc:title>
</cp:coreProperties>
</file>