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2E2-FD72-404F-AD0B-113D2729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7E5-931D-4A8E-8469-86710D15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8C8-38F5-4204-9DAB-381546B3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280-02CD-4F71-81DB-1FDAEEF1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9577-6CF9-468D-A404-2644F3BF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B067-0A8E-4224-8080-49220E77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6563-97B0-4AC6-9759-F099292B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DE3A-EAAB-4F88-9F7F-97B8A31F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2C26-2C1F-4436-9A37-B1E51D32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CBCB-BF3D-483E-8B3F-0F98544E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6F0B-2128-4F96-A367-59F7D1F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650-1A93-45DF-AA8A-7FFAD6C7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F55A-ED47-4483-8E29-DC50A4D7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5990-75B1-4618-9031-572543C0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BB0A-5A67-4AA8-98EA-A8F1380F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B836-1EBF-4A93-B021-33015ECB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525B-E5C2-474C-AC03-DEE5A3CC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5A1-425B-4255-88AE-BB3D5A42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754-4643-4C45-9F6E-F1B88963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BC2-93A2-4F1E-81BE-E0FDD9AB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0B5-C651-4ABF-A63F-44EA3116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C80-390E-43D9-A15C-88074B7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38E-1699-4B92-9B1D-4101C28C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B60-42C4-4BD6-8B1C-665E5457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2041-2549-46FF-9F60-C2ED78AE91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9C2F-7EEF-4257-A2FA-6A20E7F074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76720" y="189000"/>
            <a:ext cx="5867280" cy="1295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Напишите сочинение – миниатюру на одну из предложенных тем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«Может ли быть богатым бедный человек?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«Кто больше счастлив: кто дарит или кто принимает подарок?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«Напрасна или оправдана была жертва героев?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«Почему автор говорит о героях: «Они и есть волхвы»?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06:23:07Z</dcterms:created>
  <dc:creator>Schkola14</dc:creator>
  <dc:description/>
  <dc:language>en-US</dc:language>
  <cp:lastModifiedBy>Schkola14</cp:lastModifiedBy>
  <dcterms:modified xsi:type="dcterms:W3CDTF">2013-04-30T10:10:49Z</dcterms:modified>
  <cp:revision>2</cp:revision>
  <dc:subject/>
  <dc:title>Домашнее задание</dc:title>
</cp:coreProperties>
</file>