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png" ContentType="image/png"/>
  <Override PartName="/ppt/media/image16.jpeg" ContentType="image/jpeg"/>
  <Override PartName="/ppt/media/image15.jpeg" ContentType="image/jpeg"/>
  <Override PartName="/ppt/media/image1.wmf" ContentType="image/x-wmf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CFEA-A87F-4B62-BAC2-12CD28C67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938D-AB07-4DB6-BC0B-B7E5D78F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7ADA-B421-4241-8EDA-938CA502D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D9DE-F9E0-46B6-B87E-D99EDA2A3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79F6-320E-4C9B-9496-7591C5D56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EE28F-71E1-4E30-9423-A01282C4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B719-ECB5-4C41-9379-591BCE9E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40F6-1917-46D9-82EF-118F9CC8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13A1-E353-4442-9235-0E63B6EA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107B-0F7A-41BD-BCFE-2B562BD4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E2A5-ED93-4606-BF23-16D23377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A490-2E52-44BE-B9DB-BB58C3C0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525B-0796-494D-B837-8D9A9873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028F-37AF-4C48-9536-B42F1D5C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962D-C111-4037-80F3-A9EED866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7B39-4153-4E82-B70B-287640F26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1F5C-51BE-4B84-8D7F-17D4BE9F8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FB97-5278-457F-9E08-2296EDAB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D716-D821-45C3-B8BF-B7066D65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66CA-C2F0-48B1-ACA3-95AC06DF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0504-B572-4F06-AA2A-B4D064B7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5A69-78C7-406C-8625-E88EE2BB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5813-E360-4054-A61B-94AB17AD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7D21-2FDE-4CDC-9FFD-5B3C6803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6D5B-865C-4DA2-B5AE-719C4FF31487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7703-B649-4E0A-8FFD-EC9F295A33D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img-fotki.yandex.ru/get/3106/yuliaborsiak.0/0_275c4_d8ec06af_XL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4format.ru/index_pic.php?data=photos/42864c5a.jpg&amp;percenta=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g.rutube.ru/thumbs/53/41/5341ae588ad789b32e01bb018335d224-1-1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774072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462cb2"/>
                </a:solidFill>
                <a:latin typeface="Times New Roman"/>
              </a:rPr>
              <a:t>Роль бытовой детали в раскрытии характера литературного героя.</a:t>
            </a:r>
            <a:r>
              <a:rPr b="1" i="1" lang="en-US" sz="5400" spc="-1" strike="noStrike">
                <a:solidFill>
                  <a:srgbClr val="f7d47d"/>
                </a:solidFill>
                <a:latin typeface="Times New Roman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050920" y="4941360"/>
            <a:ext cx="5640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(На примере повести А.С.Пушкина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«Капитанская дочка»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740720" cy="26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2f1311"/>
                </a:solidFill>
                <a:latin typeface="Arial"/>
              </a:rPr>
              <a:t>Погребец — «дорожный ларец с чайным или столовым прибором или с питиями» </a:t>
            </a:r>
            <a:br>
              <a:rPr sz="4000"/>
            </a:br>
            <a:r>
              <a:rPr b="0" i="1" lang="en-US" sz="4000" spc="-1" strike="noStrike">
                <a:solidFill>
                  <a:srgbClr val="2f1311"/>
                </a:solidFill>
                <a:latin typeface="Arial"/>
              </a:rPr>
              <a:t>                                      (В. Даль)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1" name="" descr="Картинка 1 из 23"/>
          <p:cNvPicPr/>
          <p:nvPr/>
        </p:nvPicPr>
        <p:blipFill>
          <a:blip r:embed="rId1"/>
          <a:stretch/>
        </p:blipFill>
        <p:spPr>
          <a:xfrm>
            <a:off x="5219640" y="2924280"/>
            <a:ext cx="3924360" cy="3933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Картинка 2 из 23"/>
          <p:cNvPicPr/>
          <p:nvPr/>
        </p:nvPicPr>
        <p:blipFill>
          <a:blip r:embed="rId2"/>
          <a:stretch/>
        </p:blipFill>
        <p:spPr>
          <a:xfrm>
            <a:off x="0" y="2940120"/>
            <a:ext cx="521964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744876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8e840"/>
                </a:solidFill>
                <a:latin typeface="Arial"/>
              </a:rPr>
              <a:t>Штоф – графинчик вина; русская мера объёма жидкости, равная 2 водочным бутылкам или 10 чаркам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547640" y="2674800"/>
            <a:ext cx="554544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64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          </a:t>
            </a:r>
            <a:r>
              <a:rPr b="0" i="1" lang="en-US" sz="2600" spc="-1" strike="noStrike">
                <a:solidFill>
                  <a:srgbClr val="2f1311"/>
                </a:solidFill>
                <a:latin typeface="Arial"/>
              </a:rPr>
              <a:t>«Два халата, один миткалевый и шелковый полосатый на шесть рублей…</a:t>
            </a:r>
            <a:br>
              <a:rPr sz="2600"/>
            </a:br>
            <a:r>
              <a:rPr b="0" i="1" lang="en-US" sz="2600" spc="-1" strike="noStrike">
                <a:solidFill>
                  <a:srgbClr val="2f1311"/>
                </a:solidFill>
                <a:latin typeface="Arial"/>
              </a:rPr>
              <a:t>         </a:t>
            </a:r>
            <a:r>
              <a:rPr b="0" i="1" lang="en-US" sz="2600" spc="-1" strike="noStrike">
                <a:solidFill>
                  <a:srgbClr val="462cb2"/>
                </a:solidFill>
                <a:latin typeface="Arial"/>
              </a:rPr>
              <a:t>Мундир из тонкого зелёного сукна на семь рублей. </a:t>
            </a:r>
            <a:br>
              <a:rPr sz="2600"/>
            </a:br>
            <a:r>
              <a:rPr b="0" i="1" lang="en-US" sz="2600" spc="-1" strike="noStrike">
                <a:solidFill>
                  <a:srgbClr val="2f1311"/>
                </a:solidFill>
                <a:latin typeface="Arial"/>
              </a:rPr>
              <a:t>         Штаны белые суконные на пять рублей. </a:t>
            </a:r>
            <a:br>
              <a:rPr sz="2600"/>
            </a:br>
            <a:r>
              <a:rPr b="0" i="1" lang="en-US" sz="2600" spc="-1" strike="noStrike">
                <a:solidFill>
                  <a:srgbClr val="2f1311"/>
                </a:solidFill>
                <a:latin typeface="Arial"/>
              </a:rPr>
              <a:t>         </a:t>
            </a:r>
            <a:r>
              <a:rPr b="0" i="1" lang="en-US" sz="2600" spc="-1" strike="noStrike">
                <a:solidFill>
                  <a:srgbClr val="462cb2"/>
                </a:solidFill>
                <a:latin typeface="Arial"/>
              </a:rPr>
              <a:t>Двенадцать рубах полотняных голландских с манжетами на десять рублей.</a:t>
            </a:r>
            <a:r>
              <a:rPr b="0" i="1" lang="en-US" sz="2600" spc="-1" strike="noStrike">
                <a:solidFill>
                  <a:srgbClr val="2f1311"/>
                </a:solidFill>
                <a:latin typeface="Arial"/>
              </a:rPr>
              <a:t> </a:t>
            </a:r>
            <a:br>
              <a:rPr sz="2600"/>
            </a:br>
            <a:r>
              <a:rPr b="0" i="1" lang="en-US" sz="2600" spc="-1" strike="noStrike">
                <a:solidFill>
                  <a:srgbClr val="2f1311"/>
                </a:solidFill>
                <a:latin typeface="Arial"/>
              </a:rPr>
              <a:t>        Погребец чайный с посудою на два рубля с полтиною…</a:t>
            </a:r>
            <a:br>
              <a:rPr sz="2600"/>
            </a:br>
            <a:r>
              <a:rPr b="0" i="1" lang="en-US" sz="26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i="1" lang="en-US" sz="2600" spc="-1" strike="noStrike">
                <a:solidFill>
                  <a:srgbClr val="462cb2"/>
                </a:solidFill>
                <a:latin typeface="Arial"/>
              </a:rPr>
              <a:t>Одеяло ситцевое, другое тафтяное на хлопчатой бумаге – четыре рубля. </a:t>
            </a:r>
            <a:br>
              <a:rPr sz="2600"/>
            </a:br>
            <a:r>
              <a:rPr b="0" i="1" lang="en-US" sz="2600" spc="-1" strike="noStrike">
                <a:solidFill>
                  <a:srgbClr val="2f1311"/>
                </a:solidFill>
                <a:latin typeface="Arial"/>
              </a:rPr>
              <a:t>        Шуба лисья, крытая алым ратином, 40 рублей. </a:t>
            </a:r>
            <a:br>
              <a:rPr sz="2600"/>
            </a:br>
            <a:r>
              <a:rPr b="0" i="1" lang="en-US" sz="26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i="1" lang="en-US" sz="2600" spc="-1" strike="noStrike">
                <a:solidFill>
                  <a:srgbClr val="462cb2"/>
                </a:solidFill>
                <a:latin typeface="Arial"/>
              </a:rPr>
              <a:t>Ещё заячий тулупчик…15 рублей</a:t>
            </a:r>
            <a:r>
              <a:rPr b="0" i="1" lang="en-US" sz="2600" spc="-1" strike="noStrike">
                <a:solidFill>
                  <a:srgbClr val="2f1311"/>
                </a:solidFill>
                <a:latin typeface="Arial"/>
              </a:rPr>
              <a:t>».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4500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462cb2"/>
                </a:solidFill>
                <a:latin typeface="Arial"/>
              </a:rPr>
              <a:t>Миткаль</a:t>
            </a:r>
            <a:r>
              <a:rPr b="0" i="1" lang="ru-RU" sz="2800" spc="-1" strike="noStrike">
                <a:solidFill>
                  <a:srgbClr val="d8e840"/>
                </a:solidFill>
                <a:latin typeface="Arial"/>
              </a:rPr>
              <a:t> – дешёвая хлопчатобумажная ткань сероватого цвета, из которой оычно шили бельё и блузк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62cb2"/>
                </a:solidFill>
                <a:latin typeface="Arial"/>
              </a:rPr>
              <a:t>Китайка </a:t>
            </a:r>
            <a:r>
              <a:rPr b="0" i="1" lang="ru-RU" sz="2800" spc="-1" strike="noStrike">
                <a:solidFill>
                  <a:srgbClr val="d8e840"/>
                </a:solidFill>
                <a:latin typeface="Arial"/>
              </a:rPr>
              <a:t>– плотная ткань, производимая сначала в Китае, а после и в России, обычно синего, реже красного цвет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" descr="Картинка 300 из 26364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76676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8e840"/>
                </a:solidFill>
                <a:latin typeface="Arial"/>
              </a:rPr>
              <a:t>Мундир 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— военная или гражданская форменная одежда, однообразная для служащих ; собственно парадная, праздничная служебная одежда.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9" name="" descr="Картинка 28 из 36"/>
          <p:cNvPicPr/>
          <p:nvPr/>
        </p:nvPicPr>
        <p:blipFill>
          <a:blip r:embed="rId1"/>
          <a:stretch/>
        </p:blipFill>
        <p:spPr>
          <a:xfrm>
            <a:off x="4140360" y="2421000"/>
            <a:ext cx="3162240" cy="4437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Картинка 29 из 36"/>
          <p:cNvPicPr/>
          <p:nvPr/>
        </p:nvPicPr>
        <p:blipFill>
          <a:blip r:embed="rId2"/>
          <a:stretch/>
        </p:blipFill>
        <p:spPr>
          <a:xfrm>
            <a:off x="611280" y="2421000"/>
            <a:ext cx="31446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263160" y="260280"/>
            <a:ext cx="36162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62cb2"/>
                </a:solidFill>
                <a:latin typeface="Arial"/>
              </a:rPr>
              <a:t>ТАФТА</a:t>
            </a: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 - гладкая, тонкая шелковая ткань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032000" y="259920"/>
            <a:ext cx="361764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62cb2"/>
                </a:solidFill>
                <a:latin typeface="Arial"/>
              </a:rPr>
              <a:t>Ратин </a:t>
            </a: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- шерстяная ткань для верхней одежды с мохнатым, длинным завитым ворсом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.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3" name="" descr="Картинка 67 из 24377"/>
          <p:cNvPicPr/>
          <p:nvPr/>
        </p:nvPicPr>
        <p:blipFill>
          <a:blip r:embed="rId3"/>
          <a:stretch/>
        </p:blipFill>
        <p:spPr>
          <a:xfrm rot="589800">
            <a:off x="611280" y="2276640"/>
            <a:ext cx="3989160" cy="32112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Картинка 124 из 191"/>
          <p:cNvPicPr/>
          <p:nvPr/>
        </p:nvPicPr>
        <p:blipFill>
          <a:blip r:embed="rId4"/>
          <a:stretch/>
        </p:blipFill>
        <p:spPr>
          <a:xfrm>
            <a:off x="5037120" y="2276640"/>
            <a:ext cx="237024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493236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62cb2"/>
                </a:solidFill>
                <a:latin typeface="Times New Roman"/>
              </a:rPr>
              <a:t>Армяк</a:t>
            </a:r>
            <a:r>
              <a:rPr b="0" i="1" lang="en-US" sz="2800" spc="-1" strike="noStrike">
                <a:solidFill>
                  <a:srgbClr val="462cb2"/>
                </a:solidFill>
                <a:latin typeface="Times New Roman"/>
              </a:rPr>
              <a:t>(тюрк.)</a:t>
            </a:r>
            <a:r>
              <a:rPr b="0" i="1" lang="en-US" sz="2400" spc="-1" strike="noStrike">
                <a:solidFill>
                  <a:srgbClr val="2f1311"/>
                </a:solidFill>
                <a:latin typeface="Times New Roman"/>
              </a:rPr>
              <a:t> - верхняя долгополая распашная одежда в виде халата из толстой грубой шерстяной ткани или сукна, употреблявшаяся в прошлом (с 15—16 вв.) русскими крестьянами (особенно Урала и Поволжья)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03640" y="188640"/>
            <a:ext cx="26812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62cb2"/>
                </a:solidFill>
                <a:latin typeface="Times New Roman"/>
              </a:rPr>
              <a:t>Тулуп </a:t>
            </a:r>
            <a:r>
              <a:rPr b="0" i="1" lang="en-US" sz="2400" spc="-1" strike="noStrike">
                <a:solidFill>
                  <a:srgbClr val="2f1311"/>
                </a:solidFill>
                <a:latin typeface="Times New Roman"/>
              </a:rPr>
              <a:t>—длинная, обычно не крытая сукном меховая (мехом внутрь) шуба с воротником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7" name="" descr="Картинка 1 из 74"/>
          <p:cNvPicPr/>
          <p:nvPr/>
        </p:nvPicPr>
        <p:blipFill>
          <a:blip r:embed="rId1"/>
          <a:stretch/>
        </p:blipFill>
        <p:spPr>
          <a:xfrm>
            <a:off x="971640" y="2852640"/>
            <a:ext cx="2719440" cy="40053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Картинка 3 из 1710"/>
          <p:cNvPicPr/>
          <p:nvPr/>
        </p:nvPicPr>
        <p:blipFill>
          <a:blip r:embed="rId2"/>
          <a:stretch/>
        </p:blipFill>
        <p:spPr>
          <a:xfrm>
            <a:off x="4859280" y="2852640"/>
            <a:ext cx="29736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-360" y="0"/>
            <a:ext cx="7885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2f1311"/>
                </a:solidFill>
                <a:latin typeface="Times New Roman"/>
              </a:rPr>
              <a:t>« - Помилуй, батюшка Петр Андреич! — сказал Савельич. — Зачем ему твой заячий тулуп? Он его пропьет, собака, в первом кабаке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f1311"/>
                </a:solidFill>
                <a:latin typeface="Times New Roman"/>
              </a:rPr>
              <a:t>- Это, старинушка, уж не твоя печаль, — сказал мой бродяга, — пропью ли я или нет. Его благородие мне жалует шубу со своего плеча: его на то барская воля, а твое холопье дело не спорить и слушаться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f1311"/>
                </a:solidFill>
                <a:latin typeface="Times New Roman"/>
              </a:rPr>
              <a:t>- Бога ты не боишься, разбойник! — отвечал ему Савельич сер­дитым голосом. — Ты видишь, что дитя еще не смыслит, а ты и рад его обобрать, простоты его ради. Зачем тебе барский тулупчик? Ты и не напялишь его на свои окаянные плечищ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f1311"/>
                </a:solidFill>
                <a:latin typeface="Times New Roman"/>
              </a:rPr>
              <a:t>- Прошу не умничать, — сказал я своему дядьке, — сейчас неси сюда тулуп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f1311"/>
                </a:solidFill>
                <a:latin typeface="Times New Roman"/>
              </a:rPr>
              <a:t>- Господи владыко! — простонал мой Савельич. — Заячий тулуп почти новешенький! и добро бы кому, а то пьянице оголелому!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f1311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2f1311"/>
                </a:solidFill>
                <a:latin typeface="Times New Roman"/>
              </a:rPr>
              <a:t>Однако заячий тулуп явился. Мужичок тут же стал его примеривать. В самом деле тулуп, из которого успел и я вырасти, был немнож­ко для него узок. Однако он кое-как умудрился и надел его, распоров по швам. Савельич чуть не завыл, услышав, как нитки затрещали. Бродяга был чрезвычайно доволен моим подарком. Он проводил меня до кибитки и сказал с низким поклоном: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2f1311"/>
                </a:solidFill>
                <a:latin typeface="Times New Roman"/>
              </a:rPr>
              <a:t>«Спасибо, ваше благородие! Награди вас Господь за вашу добродетель. Век не забуду ваших милостей»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0" y="0"/>
            <a:ext cx="8028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SzPct val="1029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f1311"/>
                </a:solidFill>
                <a:latin typeface="Times New Roman"/>
              </a:rPr>
              <a:t>Дальнейшие события повести определяются </a:t>
            </a:r>
            <a:r>
              <a:rPr b="0" i="1" lang="en-US" sz="3400" spc="-1" strike="noStrike">
                <a:solidFill>
                  <a:srgbClr val="d8e840"/>
                </a:solidFill>
                <a:latin typeface="Times New Roman"/>
              </a:rPr>
              <a:t>осознанным нравственным выбором</a:t>
            </a:r>
            <a:r>
              <a:rPr b="0" i="1" lang="en-US" sz="3400" spc="-1" strike="noStrike">
                <a:solidFill>
                  <a:srgbClr val="2f1311"/>
                </a:solidFill>
                <a:latin typeface="Times New Roman"/>
              </a:rPr>
              <a:t> героя. Именно поэтому на склоне лет Петр Андреевич Гринев оценивает события Пугачевщины прежде всего как давшие его душе «сильное и благое потрясение».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SzPct val="10294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f1311"/>
                </a:solidFill>
                <a:latin typeface="Times New Roman"/>
              </a:rPr>
              <a:t>Итак, </a:t>
            </a:r>
            <a:r>
              <a:rPr b="0" i="1" lang="en-US" sz="3400" spc="-1" strike="noStrike">
                <a:solidFill>
                  <a:srgbClr val="d8e840"/>
                </a:solidFill>
                <a:latin typeface="Times New Roman"/>
              </a:rPr>
              <a:t>костюм и детали быта в романе не только рассказывают об эпохе, но и помогают глубже понять внутренний мир героя, идейный замысел автора</a:t>
            </a:r>
            <a:r>
              <a:rPr b="0" i="1" lang="en-US" sz="3400" spc="-1" strike="noStrike">
                <a:solidFill>
                  <a:srgbClr val="2f1311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-360" y="0"/>
            <a:ext cx="7885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62cb2"/>
                </a:solidFill>
                <a:latin typeface="Times New Roman"/>
              </a:rPr>
              <a:t>Выберите только одно из предложенных ниже заданий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62cb2"/>
                </a:solidFill>
                <a:latin typeface="Times New Roman"/>
              </a:rPr>
              <a:t>   </a:t>
            </a:r>
            <a:r>
              <a:rPr b="0" i="1" lang="ru-RU" sz="3600" spc="-1" strike="noStrike">
                <a:solidFill>
                  <a:srgbClr val="462cb2"/>
                </a:solidFill>
                <a:latin typeface="Times New Roman"/>
              </a:rPr>
              <a:t>(С 5.1, С 5.2, С 5.3). Дайте полный развернутый ответ на проблемный вопрос ( в объёме не менее 200 слов), привлекая необходимые теоретико - литературные знания, опираясь на литературные произведения, позицию автора и по возможности раскрывая собственное видение проблемы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885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62cb2"/>
                </a:solidFill>
                <a:latin typeface="Times New Roman"/>
              </a:rPr>
              <a:t>Деталь</a:t>
            </a:r>
            <a:r>
              <a:rPr b="0" i="1" lang="en-US" sz="3200" spc="-1" strike="noStrike">
                <a:solidFill>
                  <a:srgbClr val="f7d47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(фр. — подробность): </a:t>
            </a:r>
            <a:br>
              <a:rPr sz="3200"/>
            </a:b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1) элемент; 2) подробность, уточняющая характеристику образа; 3) менее значительная часть произведения; </a:t>
            </a:r>
            <a:br>
              <a:rPr sz="3200"/>
            </a:b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4) фрагмент (см.). </a:t>
            </a:r>
            <a:br>
              <a:rPr sz="3200"/>
            </a:br>
            <a:r>
              <a:rPr b="1" i="1" lang="en-US" sz="4000" spc="-1" strike="noStrike">
                <a:solidFill>
                  <a:srgbClr val="462cb2"/>
                </a:solidFill>
                <a:latin typeface="Times New Roman"/>
              </a:rPr>
              <a:t>Художественная деталь</a:t>
            </a:r>
            <a:r>
              <a:rPr b="0" i="1" lang="en-US" sz="4000" spc="-1" strike="noStrike">
                <a:solidFill>
                  <a:srgbClr val="462cb2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f7d47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изобразительная и выразительная подробность, несущая определенную эмоциональную и содержательную нагрузку, одно из средств создания автором картины природы, предмета, характера, интерьера, портрета и  т.д..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0" y="0"/>
            <a:ext cx="7812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2f1311"/>
                </a:solidFill>
                <a:latin typeface="Times New Roman"/>
              </a:rPr>
              <a:t>- «Почему возникают споры о жанре «Капитанской дочки»?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2f1311"/>
                </a:solidFill>
                <a:latin typeface="Times New Roman"/>
              </a:rPr>
              <a:t>- «Почему произведение А.С.Пушкина названо «Капитанская дочка»?»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2f1311"/>
                </a:solidFill>
                <a:latin typeface="Times New Roman"/>
              </a:rPr>
              <a:t>- «В чём значение сна Гринёва?»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2f1311"/>
                </a:solidFill>
                <a:latin typeface="Times New Roman"/>
              </a:rPr>
              <a:t>- «Не уронил ли Гринёв чести и достоинства в разговорах с Пугачёвым?»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0"/>
            <a:ext cx="747684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d8e840"/>
                </a:solidFill>
                <a:latin typeface="Times New Roman"/>
              </a:rPr>
              <a:t>Успехов в учении!</a:t>
            </a:r>
            <a:br>
              <a:rPr sz="6000"/>
            </a:br>
            <a:r>
              <a:rPr b="0" i="1" lang="en-US" sz="6000" spc="-1" strike="noStrike">
                <a:solidFill>
                  <a:srgbClr val="d8e840"/>
                </a:solidFill>
                <a:latin typeface="Times New Roman"/>
              </a:rPr>
              <a:t>Спасибо за внимание!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4" name="" descr="Картинка 17 из 120"/>
          <p:cNvPicPr/>
          <p:nvPr/>
        </p:nvPicPr>
        <p:blipFill>
          <a:blip r:embed="rId1"/>
          <a:stretch/>
        </p:blipFill>
        <p:spPr>
          <a:xfrm>
            <a:off x="250920" y="2057400"/>
            <a:ext cx="7200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728120" cy="21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62cb2"/>
                </a:solidFill>
                <a:latin typeface="Times New Roman"/>
              </a:rPr>
              <a:t>Петр.</a:t>
            </a:r>
            <a:br>
              <a:rPr sz="3200"/>
            </a:br>
            <a:r>
              <a:rPr b="0" i="1" lang="ru-RU" sz="2400" spc="-1" strike="noStrike">
                <a:solidFill>
                  <a:srgbClr val="2f1311"/>
                </a:solidFill>
                <a:latin typeface="Times New Roman"/>
              </a:rPr>
              <a:t> Свое распространение имя получило в связи с деятельностью апостола Симона Зеведеева, которого Иисус нарек Кифой или в греческом варианте - Петром. Дословно это имя означает камень, скала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6" name="" descr="Картинка 7 из 74"/>
          <p:cNvPicPr/>
          <p:nvPr/>
        </p:nvPicPr>
        <p:blipFill>
          <a:blip r:embed="rId1"/>
          <a:stretch/>
        </p:blipFill>
        <p:spPr>
          <a:xfrm>
            <a:off x="0" y="2111400"/>
            <a:ext cx="788508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63520" y="333000"/>
            <a:ext cx="7386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2f1311"/>
                </a:solidFill>
                <a:latin typeface="Arial"/>
              </a:rPr>
              <a:t>«Прощай, Пётр. Служи верно, кому присягнёшь; слушайся начальников; за их лаской не гоняйся; на службу не напрашивайся; от службы не отговаривайся; и помни пословицу: </a:t>
            </a:r>
            <a:r>
              <a:rPr b="0" i="1" lang="ru-RU" sz="4000" spc="-1" strike="noStrike">
                <a:solidFill>
                  <a:srgbClr val="d8e840"/>
                </a:solidFill>
                <a:latin typeface="Arial"/>
              </a:rPr>
              <a:t>береги платье снову, а честь смолоду</a:t>
            </a:r>
            <a:r>
              <a:rPr b="0" i="1" lang="ru-RU" sz="4000" spc="-1" strike="noStrike">
                <a:solidFill>
                  <a:srgbClr val="2f1311"/>
                </a:solidFill>
                <a:latin typeface="Arial"/>
              </a:rPr>
              <a:t>».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916000" y="0"/>
            <a:ext cx="4824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Платать,  или платить одежду — чинить, латать, класть, или нашивать, заплатки, лоскутья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62cb2"/>
                </a:solidFill>
                <a:latin typeface="Arial"/>
              </a:rPr>
              <a:t>Платанина, рубище, одежда в заплатах, ветха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Платье, платьице, портн., стар., одежа, одежда, носильное, все, что мы надеваем, кроме белья и обуви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62cb2"/>
                </a:solidFill>
                <a:latin typeface="Arial"/>
              </a:rPr>
              <a:t>Верхнее платье, второе, все, что надевается сверх первого, для тепл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Нижнее,исподнее,портки, шаровары, брюки,штаны, панталоны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Из словар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В.И.Дал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0" y="0"/>
            <a:ext cx="2916360" cy="6858000"/>
            <a:chOff x="0" y="0"/>
            <a:chExt cx="2916360" cy="6858000"/>
          </a:xfrm>
        </p:grpSpPr>
        <p:pic>
          <p:nvPicPr>
            <p:cNvPr id="200" name="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29163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 txBox="1"/>
            <p:nvPr/>
          </p:nvSpPr>
          <p:spPr>
            <a:xfrm>
              <a:off x="0" y="0"/>
              <a:ext cx="2916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SzPct val="10000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14880" cy="47973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Картинка 17 из 116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10200" y="2060640"/>
            <a:ext cx="359856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140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Облачение в «ризу светлу» после Крещения знаменует возвращение человека к целостности и невинности. Вместе с белою одеждой возлагается на новокрещёного  крест – в знак того, что он должен исполнить волю Господа нашего Иисуса Христа, даже если верующему придётся терпеть и переносить множество бед и несчастий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-360" y="0"/>
            <a:ext cx="2987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«Я стал читать про себя молитву, принося Богу искреннее раскаяние во всех моих прегрешениях и моля Его о спасении всех близких моему сердцу»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" descr="Картинка 152 из 193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27716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d8e840"/>
                </a:solidFill>
                <a:latin typeface="Arial"/>
              </a:rPr>
              <a:t>«...я не терял ни бодрости, ни надежды. Я прибегнул к утешению всех скорбящих и, впервые вкусив сладость молитвы, излиянной из чистого, но растерзанного сердца, спокойно заснул, не заботясь о том, что со мною будет»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" descr="Картинка 1 из 18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0"/>
            <a:ext cx="62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08:25:56Z</dcterms:created>
  <dc:creator>Zver</dc:creator>
  <dc:description/>
  <dc:language>en-US</dc:language>
  <cp:lastModifiedBy>Zver</cp:lastModifiedBy>
  <dcterms:modified xsi:type="dcterms:W3CDTF">2009-11-06T10:44:38Z</dcterms:modified>
  <cp:revision>20</cp:revision>
  <dc:subject/>
  <dc:title>Роль костюма и деталей быта в создании образа Петруши Гринёва.</dc:title>
</cp:coreProperties>
</file>